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36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png" ContentType="image/png"/>
  <Override PartName="/ppt/media/image5.jpeg" ContentType="image/jpeg"/>
  <Override PartName="/ppt/media/image26.jpeg" ContentType="image/jpeg"/>
  <Override PartName="/ppt/media/image3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1696-5003-4EAC-B9E2-9CB315112F6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 Warf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asters and Dise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firstworldwar.com/features/trenchlife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 Warf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asters and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firstworldwar.com/features/trenchlif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ad bodies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 to rot in the trenches because of the machine gun fire that kept the soldiers in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asy food source for rats and a place to breed 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ad bodi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 to rot in the trenches because of the machine gun fire that kept the soldiers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asy food source for rats and a place to breed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ring r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ring r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of all nations hunted the rats– sometimes rations were short and meat was added to their di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of all nations hunted the rats– sometimes rations were short and meat was added to their di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ristmas tru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ristmas tr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son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w weapon, hard to combat.  Different gas mask styles were created by different countries. None were 100% effec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son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w weapon, hard to combat.  Different gas mask styles were created by different countries. None were 100% effe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gian Uniforms and mas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stralian Gas m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gian Uniforms and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stralian Ga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apanese gas m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U. S. gas m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panese ga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. S. ga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as Tr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as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etry and Literature of World War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a Credit is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etry and Literature of World War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a Credit is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eeping whe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build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eeping w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buil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lce Et Decorum 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t double, like old beggars under sack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ck-kneed, coughing like hags, we cursed through sludg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ll on the haunting flares we turned our back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owards our distant rest began to trudg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marched asleep. Many had lost their b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limped on, blood-shod. All went lame; all blind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unk with fatigue; deaf even to the h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disappointed shells that dropped behin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! Gas! Quick, boys!-- An ecstasy of fumbl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ting the clumsy helmets just in time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someone still was yelling out and stumb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loundering like a man in fire or lime.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, through the misty panes and thick green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under a green sea, I saw him drowning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lce Et Decorum 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t double, like old beggars under sack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ck-kneed, coughing like hags, we cursed through sludg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ll on the haunting flares we turned our back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owards our distant rest began to trudg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marched asleep. Many had lost their b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limped on, blood-shod. All went lame; all blind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unk with fatigue; deaf even to the h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disappointed shells that dropped behin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! Gas! Quick, boys!-- An ecstasy of fumbl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ting the clumsy helmets just in time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someone still was yelling out and stumb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loundering like a man in fire or lime.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, through the misty panes and thick green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under a green sea, I saw him drowning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It is sweet and proper to die for your countr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ilfred Owen, died 1918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ll my dreams, before my helpless sight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lunges at me, guttering, choking, drowning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in some smothering dreams you too could pa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ind the wagon that we flung him i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atch the white eyes writhing in his fac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hanging face, like a devil's sick of sin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could hear, at every jolt, the bloo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e gargling from the froth-corrupted lung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cene as cancer, bitter as the cu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vile, incurable sores on innocent tongues,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friend, you would not tell with such high z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hildren ardent for some desperate glor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ld Lie: Dulce et decorum 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 patria mori. 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It is sweet and proper to die for your countr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ilfred Owen, died 1918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ll my dreams, before my helpless sight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lunges at me, guttering, choking, drowning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in some smothering dreams you too could pa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ind the wagon that we flung him i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atch the white eyes writhing in his fac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hanging face, like a devil's sick of sin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could hear, at every jolt, the bloo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e gargling from the froth-corrupted lung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cene as cancer, bitter as the cu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vile, incurable sores on innocent tongues,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friend, you would not tell with such high z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hildren ardent for some desperate glor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ld Lie: Dulce et decorum 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 patria mori. 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use Hun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des -- stark and glisten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lling in lurid glee. Grinning fa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raging lim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rl over the floor one fir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shirt verminously bus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n soldier tore from his throat, with oath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head might shrink at, but not the lic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soon the shirt was afl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the candle he'd lit while we l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we all sprang up and strip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unt the verminous broo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on like a demons' pantom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was raging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use H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des -- stark and glisten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lling in lurid glee. Grinning fa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raging lim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rl over the floor one fir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shirt verminously bus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n soldier tore from his throat, with oath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head might shrink at, but not the lic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soon the shirt was afl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the candle he'd lit while we l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we all sprang up and strip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unt the verminous broo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on like a demons' pantom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was raging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 louse looks like if it were large enough to se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 louse looks like if it were large enough to se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silhouettes agap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glibbering shadow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 with the battled arms on the w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gargantuan hooked fing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ck in supreme fles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mutch supreme littlenes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merry limbs in hot Highland f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some wizard verm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med from the quiet this reve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our ears were half lull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dark mus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wn from Sleep's trump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aac Rosenber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silhouettes agap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glibbering shadow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 with the battled arms on the w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gargantuan hooked fing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ck in supreme fles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mutch supreme littlenes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merry limbs in hot Highland f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some wizard verm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med from the quiet this reve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our ears were half lull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dark mus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wn from Sleep's trump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aac Rosenber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McCrae, died 19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 the poppies bl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he crosses, row on 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mark our place; and in the sk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ks, still bravely singing, f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arce heard amid the guns below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 the Dead. Short days ag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ived, felt dawn, saw sunset glow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ved and were loved, and now we l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up our quarrel with the fo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you from failing hands we th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rch; be yours to hold it high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e break faith with us who d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hall not sleep, though poppies g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McCrae, died 19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 the poppies bl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he crosses, row on 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mark our place; and in the sk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ks, still bravely singing, f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arce heard amid the guns below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 the Dead. Short days ag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ived, felt dawn, saw sunset glow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ved and were loved, and now we l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up our quarrel with the fo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you from failing hands we th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rch; be yours to hold it high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e break faith with us who d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hall not sleep, though poppies g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resources on page 986 of the text.  Possible extra credit test s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 poem as if you were a soldier or a medic during World War I, living and working in the trenches.  It must be at least 12 lines and actually be dec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resources on page 986 of the text.  Possible extra credit test s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 poem as if you were a soldier or a medic during World War I, living and working in the trenches.  It must be at least 12 lines and actually be dec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ways to build from a French hand bo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ways to build from a French hand 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fought from within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usually tight quar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fought from with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usually tight quar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es were used by both the Allies and the Central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erial photograph of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line of defe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es were used by both the Allies and the Central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erial photograph of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line of 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trenches were dee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nations fought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trenches were dee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nations fought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h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an easy tar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an easy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gers of Trench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ngers of Trench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f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having wet feet most of the time and nowhere to dry them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f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having wet feet most of the time and nowhere to dry them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5726-0122-45F1-932A-257CD469F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A233-044B-4A67-A6C4-B9051999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0F1C-CE65-4D72-A40F-3D19E869A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D525-3C61-4104-AD2D-4C450E99F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00E3C-CDEC-4BE6-ADFF-ACEFE115A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5A42-CDA7-42AF-910F-5A802F51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3035-8FC0-4D75-8561-5F1D73CB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44CF6-5DBD-49AC-8862-210B6A35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4E42-FDEB-4FCB-AFF0-CDE9C399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E04F0-6FED-4229-A80F-A8ADDCD9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9904-0E2B-45E8-A6C4-6191F7BB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FF1D-8491-4017-8167-7EBE68CA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1010-DF27-44AF-B9D3-74361781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46AD-141C-4C00-A27E-4B9656DE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2F2E9-2802-4509-8535-17385745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A554-B6B4-4734-AF6C-B53777A81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3990-673B-4304-96D7-F1F6A5047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5F2C0-AEC9-4847-A69F-0CFFBBA11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2B28A-CEA7-4E76-B547-5DBE462B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DAAA9-C58F-4520-9801-AE41A92D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90C82-7AF4-44F2-B088-3549CAD2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592D8-9264-41CE-93DD-C7D2E254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CDDE-1975-4D9B-AFEB-99D9DCEE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E50FF-502A-4E6D-A8D6-B76E7226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E4FF7-14EB-4766-9FFA-4BCE9C8B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92E5F-3681-48B4-934B-F63C2E3B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AF59B-0DA9-41DC-8691-17C0F685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67153-169A-47FD-B485-604C84FD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3DFEF-76AE-419F-BFAA-4CD25073B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D44C1-B944-4BFC-8669-834695B5B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32879-2E22-4BF6-827E-9B2493027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BF058-217A-496D-A2ED-F8C3AAB8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2E92C-2CFD-4452-A0C3-78F19AF1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B444-4323-4A37-9B41-4437150C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144F3-452A-45E1-BD41-1B3E2715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3F16E-5E32-44C5-9B12-61CCEB1B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3979C-FDEC-48C5-9DE6-9A697466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87C29-56D9-4888-9C66-B3D8B95C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F56FA-C243-48D8-885C-87F2B95B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8F037-81D0-4CCB-A2D9-6BF0E5F6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C32CE-0BF3-4BC1-836E-654BB5B1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8D6BD-4C7C-4FEB-9EDC-75E13D275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B25D7-8781-484A-9022-42B1DBB37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EDFEF-EA12-4F59-91A3-F2EBEFC16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11A7-75F8-47E2-B573-3B4433B7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38C73-6E5A-4EB0-A343-ADAFDAAE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4D989-8DD7-43FE-B32E-41E9E514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3A499-F0D1-45D9-A029-91E65577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5A6DB-9595-456E-B410-8FD7F955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DAF8C-C340-4775-AB24-E227C176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742A3-C064-4D82-994D-FB8BA679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F3D11-B8F9-4526-93DF-8A6A1E11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3C699-C3D2-4C58-9268-D34F1DDA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3B5B6-3170-4F5E-9FA9-FA5E5901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65C97-B463-4683-9DFB-FB4368082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8EE5-AF0F-4509-A5C5-3ECA9DB4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15CF5-09BC-4359-9A45-EFBE681AC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E653-A47E-4BC3-9E97-68C8D592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AC54-FB5C-47BC-8781-C926204E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5F7F-81DC-4EDE-8547-D3A5A48F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D953-235C-4DF1-83FE-7E9B12F5ED00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Rounded Rectangle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5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CC6A-025E-4208-9E49-FAEF759856AC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96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Rounded Rectangle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100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991A-6E2F-4F94-8EBD-24F3EF9E4D77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45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737B-5966-4AAD-B835-CC664806BD6E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91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8E82-BF14-4D5D-9866-FA47FFFE9342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Trench Warfare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Disasters and Disea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685800" y="5562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firstworldwar.com/features/trenchlif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ead bodies…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160" y="5028840"/>
            <a:ext cx="3932280" cy="152388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eft to rot in the trenches because of the machine gun fire that kept the soldiers in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7840" y="4998960"/>
            <a:ext cx="3932280" cy="132552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 easy food source for rats and a place to breed dise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1" name="Content Placeholder 6" descr="untitleddead.bmp"/>
          <p:cNvPicPr/>
          <p:nvPr/>
        </p:nvPicPr>
        <p:blipFill>
          <a:blip r:embed="rId1"/>
          <a:stretch/>
        </p:blipFill>
        <p:spPr>
          <a:xfrm>
            <a:off x="1100160" y="1447920"/>
            <a:ext cx="2946240" cy="3489120"/>
          </a:xfrm>
          <a:prstGeom prst="rect">
            <a:avLst/>
          </a:prstGeom>
          <a:ln w="0">
            <a:noFill/>
          </a:ln>
        </p:spPr>
      </p:pic>
      <p:pic>
        <p:nvPicPr>
          <p:cNvPr id="282" name="Content Placeholder 7" descr="15618_f260.jpg"/>
          <p:cNvPicPr/>
          <p:nvPr/>
        </p:nvPicPr>
        <p:blipFill>
          <a:blip r:embed="rId2"/>
          <a:stretch/>
        </p:blipFill>
        <p:spPr>
          <a:xfrm>
            <a:off x="4334040" y="1752480"/>
            <a:ext cx="4330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Bring ra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Content Placeholder 6" descr="10-german-slodiers-after-rat-hunting-gw000.jpg"/>
          <p:cNvPicPr/>
          <p:nvPr/>
        </p:nvPicPr>
        <p:blipFill>
          <a:blip r:embed="rId1"/>
          <a:stretch/>
        </p:blipFill>
        <p:spPr>
          <a:xfrm>
            <a:off x="1523880" y="685800"/>
            <a:ext cx="708372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038120" y="4647960"/>
            <a:ext cx="3932280" cy="190476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ldiers of all nations hunted the rats– sometimes rations were short and meat was added to their di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" name="Content Placeholder 6" descr="0906rats.jpg"/>
          <p:cNvPicPr/>
          <p:nvPr/>
        </p:nvPicPr>
        <p:blipFill>
          <a:blip r:embed="rId1"/>
          <a:stretch/>
        </p:blipFill>
        <p:spPr>
          <a:xfrm>
            <a:off x="304920" y="380880"/>
            <a:ext cx="2776320" cy="3729240"/>
          </a:xfrm>
          <a:prstGeom prst="rect">
            <a:avLst/>
          </a:prstGeom>
          <a:ln w="0">
            <a:noFill/>
          </a:ln>
        </p:spPr>
      </p:pic>
      <p:pic>
        <p:nvPicPr>
          <p:cNvPr id="290" name="Content Placeholder 7" descr="Images%20-%20Rats%20001.jpg"/>
          <p:cNvPicPr/>
          <p:nvPr/>
        </p:nvPicPr>
        <p:blipFill>
          <a:blip r:embed="rId2"/>
          <a:stretch/>
        </p:blipFill>
        <p:spPr>
          <a:xfrm>
            <a:off x="3124080" y="304920"/>
            <a:ext cx="5843880" cy="44193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Je%20Sais%20Tout%20-%20Rats%20005.jpg"/>
          <p:cNvPicPr/>
          <p:nvPr/>
        </p:nvPicPr>
        <p:blipFill>
          <a:blip r:embed="rId3"/>
          <a:stretch/>
        </p:blipFill>
        <p:spPr>
          <a:xfrm>
            <a:off x="1219320" y="3398760"/>
            <a:ext cx="259056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hristmas truc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93" name="Content Placeholder 3" descr="christmas-truce-1.jpg"/>
          <p:cNvPicPr/>
          <p:nvPr/>
        </p:nvPicPr>
        <p:blipFill>
          <a:blip r:embed="rId1"/>
          <a:stretch/>
        </p:blipFill>
        <p:spPr>
          <a:xfrm>
            <a:off x="738360" y="272880"/>
            <a:ext cx="711036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Content Placeholder 3" descr="trench3.jpg"/>
          <p:cNvPicPr/>
          <p:nvPr/>
        </p:nvPicPr>
        <p:blipFill>
          <a:blip r:embed="rId1"/>
          <a:stretch/>
        </p:blipFill>
        <p:spPr>
          <a:xfrm>
            <a:off x="2362320" y="304920"/>
            <a:ext cx="6541920" cy="43336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Poison Ga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Text Placeholder 2"/>
          <p:cNvSpPr/>
          <p:nvPr/>
        </p:nvSpPr>
        <p:spPr>
          <a:xfrm>
            <a:off x="457200" y="4648320"/>
            <a:ext cx="81532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new weapon, hard to combat.  Different gas mask styles were created by different countries. None were 100% eff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Belgian Uniforms and mask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stralian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0" name="Content Placeholder 6" descr="belgian-gas-masks-WWI.jpg"/>
          <p:cNvPicPr/>
          <p:nvPr/>
        </p:nvPicPr>
        <p:blipFill>
          <a:blip r:embed="rId1"/>
          <a:stretch/>
        </p:blipFill>
        <p:spPr>
          <a:xfrm>
            <a:off x="608040" y="1717560"/>
            <a:ext cx="3930480" cy="2949840"/>
          </a:xfrm>
          <a:prstGeom prst="rect">
            <a:avLst/>
          </a:prstGeom>
          <a:ln w="0">
            <a:noFill/>
          </a:ln>
        </p:spPr>
      </p:pic>
      <p:pic>
        <p:nvPicPr>
          <p:cNvPr id="301" name="Content Placeholder 7" descr="Aussie.jpg"/>
          <p:cNvPicPr/>
          <p:nvPr/>
        </p:nvPicPr>
        <p:blipFill>
          <a:blip r:embed="rId2"/>
          <a:stretch/>
        </p:blipFill>
        <p:spPr>
          <a:xfrm>
            <a:off x="5457960" y="1447920"/>
            <a:ext cx="232092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Japanese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. S.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Content Placeholder 6" descr="gas_maskjapanese.jpg"/>
          <p:cNvPicPr/>
          <p:nvPr/>
        </p:nvPicPr>
        <p:blipFill>
          <a:blip r:embed="rId1"/>
          <a:stretch/>
        </p:blipFill>
        <p:spPr>
          <a:xfrm>
            <a:off x="890640" y="1447920"/>
            <a:ext cx="3365280" cy="3489120"/>
          </a:xfrm>
          <a:prstGeom prst="rect">
            <a:avLst/>
          </a:prstGeom>
          <a:ln w="0">
            <a:noFill/>
          </a:ln>
        </p:spPr>
      </p:pic>
      <p:pic>
        <p:nvPicPr>
          <p:cNvPr id="306" name="Content Placeholder 7" descr="US_WWI_Gas_mask_with_bag.jpg"/>
          <p:cNvPicPr/>
          <p:nvPr/>
        </p:nvPicPr>
        <p:blipFill>
          <a:blip r:embed="rId2"/>
          <a:stretch/>
        </p:blipFill>
        <p:spPr>
          <a:xfrm>
            <a:off x="4794120" y="1447920"/>
            <a:ext cx="364824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Content Placeholder 4" descr="WWI-Gas-training.jpg"/>
          <p:cNvPicPr/>
          <p:nvPr/>
        </p:nvPicPr>
        <p:blipFill>
          <a:blip r:embed="rId1"/>
          <a:stretch/>
        </p:blipFill>
        <p:spPr>
          <a:xfrm>
            <a:off x="663480" y="712800"/>
            <a:ext cx="7718400" cy="4925880"/>
          </a:xfrm>
          <a:prstGeom prst="rect">
            <a:avLst/>
          </a:prstGeom>
          <a:ln w="0">
            <a:noFill/>
          </a:ln>
        </p:spPr>
      </p:pic>
      <p:sp>
        <p:nvSpPr>
          <p:cNvPr id="308" name="Title 1"/>
          <p:cNvSpPr/>
          <p:nvPr/>
        </p:nvSpPr>
        <p:spPr>
          <a:xfrm>
            <a:off x="762120" y="5410080"/>
            <a:ext cx="777240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Gas Tra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wwi_sergeant_and_his_dog_wearing_gas_masks_1915_poster-p228219550221623327tdar_210.jpg"/>
          <p:cNvPicPr/>
          <p:nvPr/>
        </p:nvPicPr>
        <p:blipFill>
          <a:blip r:embed="rId1"/>
          <a:stretch/>
        </p:blipFill>
        <p:spPr>
          <a:xfrm>
            <a:off x="228600" y="228600"/>
            <a:ext cx="3895560" cy="38955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" descr="WWI-Horses-Gasmasks.jpg"/>
          <p:cNvPicPr/>
          <p:nvPr/>
        </p:nvPicPr>
        <p:blipFill>
          <a:blip r:embed="rId2"/>
          <a:stretch/>
        </p:blipFill>
        <p:spPr>
          <a:xfrm>
            <a:off x="6324480" y="609480"/>
            <a:ext cx="2381400" cy="34671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german-messenger-dog-with-gas-protection-mask-wwi-500x367.jpg"/>
          <p:cNvPicPr/>
          <p:nvPr/>
        </p:nvPicPr>
        <p:blipFill>
          <a:blip r:embed="rId3"/>
          <a:stretch/>
        </p:blipFill>
        <p:spPr>
          <a:xfrm>
            <a:off x="2895480" y="3195720"/>
            <a:ext cx="445788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Poetry and Literature of World War I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Extra Credit is avail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Sleeping where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ow to build th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Content Placeholder 6" descr="diagram.jpg"/>
          <p:cNvPicPr/>
          <p:nvPr/>
        </p:nvPicPr>
        <p:blipFill>
          <a:blip r:embed="rId1"/>
          <a:stretch/>
        </p:blipFill>
        <p:spPr>
          <a:xfrm>
            <a:off x="533520" y="1295280"/>
            <a:ext cx="801828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ulce Et Decorum Es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Text Placeholder 2"/>
          <p:cNvSpPr/>
          <p:nvPr/>
        </p:nvSpPr>
        <p:spPr>
          <a:xfrm>
            <a:off x="457200" y="685800"/>
            <a:ext cx="8153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br>
              <a:rPr sz="7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nt double, like old beggars under sack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ck-kneed, coughing like hags, we cursed through sludg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ll on the haunting flares we turned our back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towards our distant rest began to trudg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n marched asleep. Many had lost their boo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limped on, blood-shod. All went lame; all blind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unk with fatigue; deaf even to the hoo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disappointed shells that dropped behind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S! Gas! Quick, boys!-- An ecstasy of fumbling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tting the clumsy helmets just in tim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someone still was yelling out and stumb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floundering like a man in fire or lime.--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m, through the misty panes and thick green ligh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 under a green sea, I saw him drowning.</a:t>
            </a:r>
            <a:br>
              <a:rPr sz="2000"/>
            </a:br>
            <a:br>
              <a:rPr sz="2000"/>
            </a:br>
            <a:br>
              <a:rPr sz="7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* It is sweet and proper to die for your country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br>
              <a:rPr sz="1600"/>
            </a:b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 Wilfred Owen, died 1918 </a:t>
            </a:r>
            <a:br>
              <a:rPr sz="3200"/>
            </a:br>
            <a:endParaRPr b="1" lang="en-US" sz="1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7" name="Rectangle 2"/>
          <p:cNvSpPr/>
          <p:nvPr/>
        </p:nvSpPr>
        <p:spPr>
          <a:xfrm>
            <a:off x="990720" y="990720"/>
            <a:ext cx="6400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all my dreams, before my helpless sight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 plunges at me, guttering, choking, drowning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in some smothering dreams you too could pa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hind the wagon that we flung him in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 watch the white eyes writhing in his fac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s hanging face, like a devil's sick of sin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you could hear, at every jolt, the bloo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e gargling from the froth-corrupted lung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bscene as cancer, bitter as the cu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 vile, incurable sores on innocent tongues,-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y friend, you would not tell with such high ze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children ardent for some desperate glory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old Lie: Dulce et decorum e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 patria mori.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itle 1"/>
          <p:cNvSpPr/>
          <p:nvPr/>
        </p:nvSpPr>
        <p:spPr>
          <a:xfrm>
            <a:off x="228600" y="53352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Louse H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Placeholder 2"/>
          <p:cNvSpPr/>
          <p:nvPr/>
        </p:nvSpPr>
        <p:spPr>
          <a:xfrm>
            <a:off x="1447920" y="1295280"/>
            <a:ext cx="647676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des -- stark and glistening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elling in lurid glee. Grinning fac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raging limb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rl over the floor one fir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a shirt verminously bus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n soldier tore from his throat, with oath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dhead might shrink at, but not the lic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soon the shirt was afla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ver the candle he'd lit while we l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n we all sprang up and strip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hunt the verminous broo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on like a demons' pantomi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lace was raging.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7f09"/>
                </a:solidFill>
                <a:latin typeface="Verdana"/>
              </a:rPr>
              <a:t>What a louse looks like if it were large enough to see.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1" name="Content Placeholder 4" descr="lice.jpg"/>
          <p:cNvPicPr/>
          <p:nvPr/>
        </p:nvPicPr>
        <p:blipFill>
          <a:blip r:embed="rId1"/>
          <a:stretch/>
        </p:blipFill>
        <p:spPr>
          <a:xfrm>
            <a:off x="762120" y="1773360"/>
            <a:ext cx="4626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"/>
          <p:cNvSpPr/>
          <p:nvPr/>
        </p:nvSpPr>
        <p:spPr>
          <a:xfrm>
            <a:off x="2057400" y="45720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silhouettes agap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glibbering shadow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xed with the battled arms on the wall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gargantuan hooked fing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uck in supreme fles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mutch supreme littlenes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merry limbs in hot Highland f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cause some wizard verm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rmed from the quiet this rev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our ears were half lull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the dark musi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lown from Sleep's trump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itle 1"/>
          <p:cNvSpPr/>
          <p:nvPr/>
        </p:nvSpPr>
        <p:spPr>
          <a:xfrm>
            <a:off x="533520" y="533412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ff8d3e"/>
                </a:solidFill>
                <a:latin typeface="Verdana"/>
              </a:rPr>
              <a:t>Isaac Rosenber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183520" cy="6760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9766f"/>
                </a:solidFill>
                <a:latin typeface="Verdana"/>
              </a:rPr>
              <a:t>In Flanders Field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5c00"/>
                </a:solidFill>
                <a:latin typeface="Verdana"/>
              </a:rPr>
              <a:t>John McCrae, died 191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Box 3"/>
          <p:cNvSpPr/>
          <p:nvPr/>
        </p:nvSpPr>
        <p:spPr>
          <a:xfrm>
            <a:off x="1232640" y="1143000"/>
            <a:ext cx="4568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 the poppies bl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ween the crosses, row on 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at mark our place; and in the sk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larks, still bravely singing, f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arce heard amid the guns below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are the Dead. Short days ag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lived, felt dawn, saw sunset glow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ved and were loved, and now we l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ke up our quarrel with the foe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you from failing hands we th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torch; be yours to hold it high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ye break faith with us who d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shall not sleep, though poppies g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Placeholder 4" descr="thepoem_clip_image002.jpg"/>
          <p:cNvPicPr/>
          <p:nvPr/>
        </p:nvPicPr>
        <p:blipFill>
          <a:blip r:embed="rId1"/>
          <a:stretch/>
        </p:blipFill>
        <p:spPr>
          <a:xfrm>
            <a:off x="420840" y="433440"/>
            <a:ext cx="5924520" cy="43466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dsc00783.jpg"/>
          <p:cNvPicPr/>
          <p:nvPr/>
        </p:nvPicPr>
        <p:blipFill>
          <a:blip r:embed="rId2"/>
          <a:stretch/>
        </p:blipFill>
        <p:spPr>
          <a:xfrm>
            <a:off x="6019920" y="2133720"/>
            <a:ext cx="2800080" cy="37335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p161082-Bruges-Flanders_Fields.jpg"/>
          <p:cNvPicPr/>
          <p:nvPr/>
        </p:nvPicPr>
        <p:blipFill>
          <a:blip r:embed="rId3"/>
          <a:stretch/>
        </p:blipFill>
        <p:spPr>
          <a:xfrm>
            <a:off x="380880" y="350532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ounded Rectangle 4"/>
          <p:cNvSpPr/>
          <p:nvPr/>
        </p:nvSpPr>
        <p:spPr>
          <a:xfrm>
            <a:off x="304920" y="380880"/>
            <a:ext cx="8534160" cy="6096240"/>
          </a:xfrm>
          <a:prstGeom prst="roundRect">
            <a:avLst>
              <a:gd name="adj" fmla="val 16667"/>
            </a:avLst>
          </a:prstGeom>
          <a:solidFill>
            <a:srgbClr val="0d0d0d"/>
          </a:solidFill>
          <a:ln w="424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8229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66f"/>
                </a:solidFill>
                <a:latin typeface="Verdana"/>
              </a:rPr>
              <a:t>More resources on page 986 of the text.  Possible extra credit test scor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90360" y="533160"/>
            <a:ext cx="7559640" cy="42116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rite a poem as if you were a soldier or a medic during World War I, living and working in the trenches.  It must be at least 12 lines and actually be decent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538600" y="533160"/>
            <a:ext cx="2971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07f09"/>
                </a:solidFill>
                <a:latin typeface="Verdana"/>
              </a:rPr>
              <a:t>More ways to build from a French hand book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0" name="Content Placeholder 4" descr="tren001.jpg"/>
          <p:cNvPicPr/>
          <p:nvPr/>
        </p:nvPicPr>
        <p:blipFill>
          <a:blip r:embed="rId1"/>
          <a:stretch/>
        </p:blipFill>
        <p:spPr>
          <a:xfrm>
            <a:off x="960480" y="380880"/>
            <a:ext cx="422892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ldiers fought from within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t was usually tight quart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Content Placeholder 6" descr="default.jpg"/>
          <p:cNvPicPr/>
          <p:nvPr/>
        </p:nvPicPr>
        <p:blipFill>
          <a:blip r:embed="rId1"/>
          <a:stretch/>
        </p:blipFill>
        <p:spPr>
          <a:xfrm>
            <a:off x="608040" y="2009880"/>
            <a:ext cx="3930480" cy="2365200"/>
          </a:xfrm>
          <a:prstGeom prst="rect">
            <a:avLst/>
          </a:prstGeom>
          <a:ln w="0">
            <a:noFill/>
          </a:ln>
        </p:spPr>
      </p:pic>
      <p:pic>
        <p:nvPicPr>
          <p:cNvPr id="255" name="Content Placeholder 7" descr="3.jpg"/>
          <p:cNvPicPr/>
          <p:nvPr/>
        </p:nvPicPr>
        <p:blipFill>
          <a:blip r:embed="rId2"/>
          <a:stretch/>
        </p:blipFill>
        <p:spPr>
          <a:xfrm>
            <a:off x="4653000" y="1774800"/>
            <a:ext cx="39304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Trenches were used by both the Allies and the Central Power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n aerial photograph of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rst line of defen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Content Placeholder 6" descr="tren008.jpg"/>
          <p:cNvPicPr/>
          <p:nvPr/>
        </p:nvPicPr>
        <p:blipFill>
          <a:blip r:embed="rId1"/>
          <a:stretch/>
        </p:blipFill>
        <p:spPr>
          <a:xfrm>
            <a:off x="685800" y="1447920"/>
            <a:ext cx="3794040" cy="3946320"/>
          </a:xfrm>
          <a:prstGeom prst="rect">
            <a:avLst/>
          </a:prstGeom>
          <a:ln w="0">
            <a:noFill/>
          </a:ln>
        </p:spPr>
      </p:pic>
      <p:pic>
        <p:nvPicPr>
          <p:cNvPr id="260" name="Content Placeholder 7" descr="image.jpg"/>
          <p:cNvPicPr/>
          <p:nvPr/>
        </p:nvPicPr>
        <p:blipFill>
          <a:blip r:embed="rId2"/>
          <a:stretch/>
        </p:blipFill>
        <p:spPr>
          <a:xfrm>
            <a:off x="4653000" y="1592280"/>
            <a:ext cx="3930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In the trench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ot all trenches were dee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any nations fought togeth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Content Placeholder 9" descr="Trench_warfare.jpg"/>
          <p:cNvPicPr/>
          <p:nvPr/>
        </p:nvPicPr>
        <p:blipFill>
          <a:blip r:embed="rId1"/>
          <a:stretch/>
        </p:blipFill>
        <p:spPr>
          <a:xfrm>
            <a:off x="4843440" y="1447920"/>
            <a:ext cx="3170160" cy="3962160"/>
          </a:xfrm>
          <a:prstGeom prst="rect">
            <a:avLst/>
          </a:prstGeom>
          <a:ln w="0">
            <a:noFill/>
          </a:ln>
        </p:spPr>
      </p:pic>
      <p:pic>
        <p:nvPicPr>
          <p:cNvPr id="265" name="Content Placeholder 8" descr="trenches.jpg"/>
          <p:cNvPicPr/>
          <p:nvPr/>
        </p:nvPicPr>
        <p:blipFill>
          <a:blip r:embed="rId2"/>
          <a:stretch/>
        </p:blipFill>
        <p:spPr>
          <a:xfrm>
            <a:off x="457200" y="1828800"/>
            <a:ext cx="430056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Fightin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metimes an easy targ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Content Placeholder 6" descr="untitled.bmp"/>
          <p:cNvPicPr/>
          <p:nvPr/>
        </p:nvPicPr>
        <p:blipFill>
          <a:blip r:embed="rId1"/>
          <a:stretch/>
        </p:blipFill>
        <p:spPr>
          <a:xfrm>
            <a:off x="898560" y="1447920"/>
            <a:ext cx="3349440" cy="3489120"/>
          </a:xfrm>
          <a:prstGeom prst="rect">
            <a:avLst/>
          </a:prstGeom>
          <a:ln w="0">
            <a:noFill/>
          </a:ln>
        </p:spPr>
      </p:pic>
      <p:pic>
        <p:nvPicPr>
          <p:cNvPr id="270" name="Content Placeholder 7" descr="trenchPA_468x607.jpg"/>
          <p:cNvPicPr/>
          <p:nvPr/>
        </p:nvPicPr>
        <p:blipFill>
          <a:blip r:embed="rId2"/>
          <a:stretch/>
        </p:blipFill>
        <p:spPr>
          <a:xfrm>
            <a:off x="5273640" y="1447920"/>
            <a:ext cx="268920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angers of Trench lif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2" name="Content Placeholder 3" descr="duncan15.gif"/>
          <p:cNvPicPr/>
          <p:nvPr/>
        </p:nvPicPr>
        <p:blipFill>
          <a:blip r:embed="rId1"/>
          <a:stretch/>
        </p:blipFill>
        <p:spPr>
          <a:xfrm>
            <a:off x="728640" y="1305000"/>
            <a:ext cx="727236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Trenchfoo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163008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om having wet feet most of the time and nowhere to dry them o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Content Placeholder 6" descr="waterfilledtrench.jpg"/>
          <p:cNvPicPr/>
          <p:nvPr/>
        </p:nvPicPr>
        <p:blipFill>
          <a:blip r:embed="rId1"/>
          <a:stretch/>
        </p:blipFill>
        <p:spPr>
          <a:xfrm>
            <a:off x="896760" y="593640"/>
            <a:ext cx="3353040" cy="5197680"/>
          </a:xfrm>
          <a:prstGeom prst="rect">
            <a:avLst/>
          </a:prstGeom>
          <a:ln w="0">
            <a:noFill/>
          </a:ln>
        </p:spPr>
      </p:pic>
      <p:pic>
        <p:nvPicPr>
          <p:cNvPr id="277" name="Content Placeholder 7" descr="foot.jpg"/>
          <p:cNvPicPr/>
          <p:nvPr/>
        </p:nvPicPr>
        <p:blipFill>
          <a:blip r:embed="rId2"/>
          <a:stretch/>
        </p:blipFill>
        <p:spPr>
          <a:xfrm>
            <a:off x="5486400" y="2438280"/>
            <a:ext cx="231300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7:38Z</dcterms:created>
  <dc:creator>SBHC</dc:creator>
  <dc:description/>
  <dc:language>en-US</dc:language>
  <cp:lastModifiedBy>LEGION</cp:lastModifiedBy>
  <dcterms:modified xsi:type="dcterms:W3CDTF">2017-07-03T09:58:31Z</dcterms:modified>
  <cp:revision>21</cp:revision>
  <dc:subject/>
  <dc:title>Slide 1</dc:title>
</cp:coreProperties>
</file>